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015-45A6-4AD4-93D5-370B0449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991-7130-421B-96BA-09C68506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3EF-9516-41D1-A611-1BD1BCA2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37C-8CA4-411F-BFD9-8C81F466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4FF-682D-4376-A019-E356023E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BA9-263B-40E9-BA73-A7FC2CEB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71D-D6C1-4EE7-B2E7-6E5EA12D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A06-2880-4D70-B421-288788E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540-4640-4316-8244-6E709C7A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A27-EAF4-40C5-AE2A-83A754D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51D-23D8-4C71-90FB-EA636F7E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A3E-C748-4397-A3DB-795BD4E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357D-0C27-4589-AB80-8334549F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www.rp-online.de/layout/showbilder/9005-beckham%2520ap.jpg&amp;imgrefurl=http://www.ecobachillerato.com/blog3/2006/02/el-rey-midas-del-ftbol.html&amp;h=276&amp;w=350&amp;sz=19&amp;hl=en&amp;start=116&amp;tbnid=8HhZ1waXCxelLM:&amp;tbnh=95&amp;tbnw=120&amp;prev=/images%3Fq%3Dpublicidad%2Bde%2Bdavid%2Bbeckham%26start%3D100%26gbv%3D2%26ndsp%3D20%26hl%3Den%26sa%3DN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349360"/>
            <a:ext cx="66261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VID BECKHAM</a:t>
            </a:r>
            <a:endParaRPr b="0" i="1" lang="en-US" sz="1800" spc="1" strike="noStrike">
              <a:ln w="936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Bradley Hand ITC"/>
              </a:rPr>
              <a:t>His real name is:</a:t>
            </a:r>
            <a:r>
              <a:rPr b="1" lang="es-E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s-ES" sz="2800" spc="-1" strike="noStrike">
                <a:solidFill>
                  <a:srgbClr val="99ccff"/>
                </a:solidFill>
                <a:latin typeface="Bradley Hand ITC"/>
              </a:rPr>
              <a:t>David Robert Joseph Beckh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Bradley Hand ITC"/>
              </a:rPr>
              <a:t>He was born: </a:t>
            </a:r>
            <a:r>
              <a:rPr b="1" lang="es-ES" sz="2800" spc="-1" strike="noStrike">
                <a:solidFill>
                  <a:srgbClr val="99ccff"/>
                </a:solidFill>
                <a:latin typeface="Bradley Hand ITC"/>
              </a:rPr>
              <a:t>2 may of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Bradley Hand ITC"/>
              </a:rPr>
              <a:t>He was born  in: </a:t>
            </a:r>
            <a:r>
              <a:rPr b="1" lang="es-ES" sz="2800" spc="-1" strike="noStrike">
                <a:solidFill>
                  <a:srgbClr val="99ccff"/>
                </a:solidFill>
                <a:latin typeface="Bradley Hand ITC"/>
              </a:rPr>
              <a:t>Leytonstone, London,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857680" cy="3905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260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omic Sans MS"/>
              </a:rPr>
              <a:t>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Ravie"/>
              </a:rPr>
              <a:t>SENIORS CL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                                </a:t>
            </a:r>
            <a:r>
              <a:rPr b="1" lang="en-GB" sz="1600" spc="-1" strike="noStrike" u="sng">
                <a:solidFill>
                  <a:srgbClr val="3399ff"/>
                </a:solidFill>
                <a:uFillTx/>
                <a:latin typeface="Bradley Hand ITC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Manchester United→</a:t>
            </a: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993-2003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2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Preston North End (loan) →</a:t>
            </a: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995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Real Madrid→</a:t>
            </a: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2003.2007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Los Angeles Galaxy →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2007-¿?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Bradley Hand ITC"/>
              </a:rPr>
              <a:t>Nowadays he plays in Los Angeles Galaxy, of which he is a captain, from July 1, 2007. Previously, he developed all his sports career in the Manchester United and Real Madr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Bradley Hand ITC"/>
              </a:rPr>
              <a:t>Considered by many people as the best  free shot stricker of the world,  due to his great precision and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4365720"/>
            <a:ext cx="33130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ff"/>
                </a:solidFill>
                <a:latin typeface="Bradley Hand ITC"/>
              </a:rPr>
              <a:t>Fashion 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radley Hand ITC"/>
              </a:rPr>
              <a:t>He is now rich and famous, because he advertises lots of things: perfumes, razors, clothes, mobile phon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radley Hand ITC"/>
              </a:rPr>
              <a:t>His wife, Victoria Beckham, is also very famous and a fashion 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4437000"/>
            <a:ext cx="2519280" cy="199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199368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659640" y="260280"/>
            <a:ext cx="208764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19280" y="2133720"/>
            <a:ext cx="597708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The E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5589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Bradley Hand ITC"/>
              </a:rPr>
              <a:t>By: Almudena Mirón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11:17Z</dcterms:created>
  <dc:creator>Alumno55</dc:creator>
  <dc:description/>
  <dc:language>en-US</dc:language>
  <cp:lastModifiedBy>Alumno55</cp:lastModifiedBy>
  <dcterms:modified xsi:type="dcterms:W3CDTF">2008-06-09T08:38:00Z</dcterms:modified>
  <cp:revision>6</cp:revision>
  <dc:subject/>
  <dc:title>Diapositiva 1</dc:title>
</cp:coreProperties>
</file>